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78B6-3B96-40A4-833D-8561DCC72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A94EE-F23F-4C04-8689-5FD2B3638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B55-DE92-4492-A95F-EA367A25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5D8-0126-4349-A9D0-D6545FCA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4ED-8458-4BAE-9E26-8C6F04C8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018-5F37-444F-BAC3-AE010DE2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861B-6295-4F03-BD5F-FAAAF43D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4421-9E2C-46D4-81D4-A9FFA37B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70C3-E0D0-49A8-9597-1A10218F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2644-BEFB-4A04-91BC-501226CA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75EE-A00C-4106-B373-88B351D7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AA2D-2259-46DE-8B45-F28BA8CC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0543-DB6A-4588-B511-9201A555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611-54B5-4FBE-8EAC-FBBA4F8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1E1C-FF69-467F-A64D-D09C3BE1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12F0-CD8D-4231-A5D9-2B63133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AC0A-DCDC-4B0A-A4B7-FB0E878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221-AEBE-4CBE-A328-40648A53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DB5A-4865-4690-9204-B83058BC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8DC-ACF6-42F4-BC4B-68BCA70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E9A-9D5B-450F-A9ED-AB61100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0E6-B89A-4433-AD70-913C2702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187-8A4D-4629-866B-B69BC938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54A-D72A-414A-BEEB-AC7BC7B5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974-97C4-40FD-BB15-69F29AEB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B43-6B4F-4142-9A70-9DF897C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A657-7C11-4D33-851E-DBA5383CA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29EE-3B9C-4F56-87A6-A79EDA69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Kootenay Boundary Leadership Development Program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luminate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6, 2010 (3:30 - 5:00 PS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:30 - 6:00 M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lans for next year..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r biggest questions regarding managing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hope to learn from the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post to the wiki by May 11,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rting Though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key responsibilities of school leaders is to create and sustain opportunities for adult learning that lead to improved learning for young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ser and H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arning Intentions for the Ses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view the Leadership Mindsets and context as a foundation for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participants with an opportunity to share actions taken since our last session around the Mind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the stage for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hape of the Ses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etting - Key content of the year (Leadership Mindsets, Supervising for Learning,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 knowledge sharing and buil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Goal set around Supervising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One key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One comment re the degree to which you see evidence that your goal/action are making a difference, with an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2743200" y="1981080"/>
            <a:ext cx="3657600" cy="3505320"/>
          </a:xfrm>
          <a:prstGeom prst="ellipse">
            <a:avLst/>
          </a:prstGeom>
          <a:solidFill>
            <a:srgbClr val="b6f968"/>
          </a:solidFill>
          <a:ln w="93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76720" y="2362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aeec8"/>
                </a:solidFill>
                <a:latin typeface="Copperplate Gothic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84200" y="198360"/>
            <a:ext cx="83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eadership Mind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2536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ult Learn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995720" y="121428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idence S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3429000"/>
            <a:ext cx="199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ep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85800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059280" y="5661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943360" y="2698920"/>
            <a:ext cx="3152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In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M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324000" y="1628640"/>
            <a:ext cx="213336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380880" y="4800240"/>
            <a:ext cx="236232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 flipV="1">
            <a:off x="6588000" y="1484280"/>
            <a:ext cx="228600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572000" y="11430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443640" y="4797360"/>
            <a:ext cx="2362320" cy="12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687240" y="906480"/>
            <a:ext cx="7769520" cy="0"/>
          </a:xfrm>
          <a:prstGeom prst="line">
            <a:avLst/>
          </a:prstGeom>
          <a:ln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387A9-8E14-42DF-B369-DF744D2C5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BCELC-logo"/>
          <p:cNvPicPr/>
          <p:nvPr/>
        </p:nvPicPr>
        <p:blipFill>
          <a:blip r:embed="rId2"/>
          <a:stretch/>
        </p:blipFill>
        <p:spPr>
          <a:xfrm>
            <a:off x="6248520" y="6400800"/>
            <a:ext cx="2286000" cy="37476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8"/>
          <p:cNvGrpSpPr/>
          <p:nvPr/>
        </p:nvGrpSpPr>
        <p:grpSpPr>
          <a:xfrm>
            <a:off x="1208520" y="7200"/>
            <a:ext cx="7166880" cy="6374520"/>
            <a:chOff x="1208520" y="7200"/>
            <a:chExt cx="7166880" cy="6374520"/>
          </a:xfrm>
        </p:grpSpPr>
        <p:grpSp>
          <p:nvGrpSpPr>
            <p:cNvPr id="113" name="Group 9"/>
            <p:cNvGrpSpPr/>
            <p:nvPr/>
          </p:nvGrpSpPr>
          <p:grpSpPr>
            <a:xfrm>
              <a:off x="1208520" y="7200"/>
              <a:ext cx="7166880" cy="6145920"/>
              <a:chOff x="1208520" y="7200"/>
              <a:chExt cx="7166880" cy="6145920"/>
            </a:xfrm>
          </p:grpSpPr>
          <p:sp>
            <p:nvSpPr>
              <p:cNvPr id="114" name="AutoShape 10"/>
              <p:cNvSpPr/>
              <p:nvPr/>
            </p:nvSpPr>
            <p:spPr>
              <a:xfrm>
                <a:off x="1657080" y="302400"/>
                <a:ext cx="6298920" cy="5392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>
                      <a:alpha val="7607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54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1"/>
              <p:cNvSpPr/>
              <p:nvPr/>
            </p:nvSpPr>
            <p:spPr>
              <a:xfrm>
                <a:off x="3314880" y="2539440"/>
                <a:ext cx="2932200" cy="29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Meaningfu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an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reflective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dialogue around and about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student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learn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"/>
              <p:cNvSpPr/>
              <p:nvPr/>
            </p:nvSpPr>
            <p:spPr>
              <a:xfrm>
                <a:off x="1600200" y="5694480"/>
                <a:ext cx="64072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Culture of continuous learning and improvement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 rot="3580800">
                <a:off x="3474360" y="2592000"/>
                <a:ext cx="625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Knowledge of teaching and learning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 rot="18018600">
                <a:off x="-118080" y="2590200"/>
                <a:ext cx="621432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Positive professional relationship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1600200" y="5981760"/>
              <a:ext cx="64018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Calibri"/>
                </a:rPr>
                <a:t>A Culture of Inqui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BCELC-logo"/>
          <p:cNvPicPr/>
          <p:nvPr/>
        </p:nvPicPr>
        <p:blipFill>
          <a:blip r:embed="rId2"/>
          <a:stretch/>
        </p:blipFill>
        <p:spPr>
          <a:xfrm>
            <a:off x="6248520" y="6248520"/>
            <a:ext cx="2286000" cy="3744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609480" y="387360"/>
            <a:ext cx="7925040" cy="6286320"/>
            <a:chOff x="609480" y="387360"/>
            <a:chExt cx="7925040" cy="6286320"/>
          </a:xfrm>
        </p:grpSpPr>
        <p:sp>
          <p:nvSpPr>
            <p:cNvPr id="122" name="Text Box 11"/>
            <p:cNvSpPr/>
            <p:nvPr/>
          </p:nvSpPr>
          <p:spPr>
            <a:xfrm>
              <a:off x="4000680" y="2444400"/>
              <a:ext cx="1485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638680" y="5263920"/>
              <a:ext cx="171288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cus on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7"/>
            <p:cNvGrpSpPr/>
            <p:nvPr/>
          </p:nvGrpSpPr>
          <p:grpSpPr>
            <a:xfrm>
              <a:off x="609480" y="387360"/>
              <a:ext cx="7925040" cy="6286320"/>
              <a:chOff x="609480" y="387360"/>
              <a:chExt cx="7925040" cy="6286320"/>
            </a:xfrm>
          </p:grpSpPr>
          <p:sp>
            <p:nvSpPr>
              <p:cNvPr id="125" name="Text Box 8"/>
              <p:cNvSpPr/>
              <p:nvPr/>
            </p:nvSpPr>
            <p:spPr>
              <a:xfrm>
                <a:off x="609480" y="387360"/>
                <a:ext cx="3467160" cy="62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Evaluation / Supervision Of Teac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Jud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Bottom Line / Final Wo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nvers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bservation / Respon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in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ole Specif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o Some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9"/>
              <p:cNvSpPr/>
              <p:nvPr/>
            </p:nvSpPr>
            <p:spPr>
              <a:xfrm>
                <a:off x="4876920" y="387360"/>
                <a:ext cx="3657600" cy="54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pervising For Lear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ear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Descriptive Feed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flective Di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qui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yclic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ole Flexibil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ogeth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3886200" y="2215800"/>
                <a:ext cx="1714680" cy="914040"/>
              </a:xfrm>
              <a:prstGeom prst="ellipse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4"/>
              <p:cNvSpPr/>
              <p:nvPr/>
            </p:nvSpPr>
            <p:spPr>
              <a:xfrm>
                <a:off x="1981080" y="5263920"/>
                <a:ext cx="171468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Focus on Teac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6"/>
              <p:cNvSpPr/>
              <p:nvPr/>
            </p:nvSpPr>
            <p:spPr>
              <a:xfrm flipV="1">
                <a:off x="3352680" y="3196440"/>
                <a:ext cx="1028880" cy="19141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7"/>
              <p:cNvSpPr/>
              <p:nvPr/>
            </p:nvSpPr>
            <p:spPr>
              <a:xfrm flipH="1" flipV="1">
                <a:off x="5063760" y="3196440"/>
                <a:ext cx="956160" cy="19152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me Connec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ship mindsets are foundational to effective supervision fo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upervision involves a focus on the mindsets, including a commitme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oral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dul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nquirymin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rticipant Report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Goal set around Supervising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One ke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ne comment re the degree to which you see evidence that your goal/action are making a difference, with an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lans for Next Y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n “Managing  Confli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uminate sess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up session with Judy and Linda: Mind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1:56:27Z</dcterms:created>
  <dc:creator>Pat Dooley</dc:creator>
  <dc:description/>
  <dc:language>en-US</dc:language>
  <cp:lastModifiedBy>Pat Dooley</cp:lastModifiedBy>
  <dcterms:modified xsi:type="dcterms:W3CDTF">2010-05-02T22:35:49Z</dcterms:modified>
  <cp:revision>15</cp:revision>
  <dc:subject/>
  <dc:title>Kootenay Boundary Leadership Development Program</dc:title>
</cp:coreProperties>
</file>