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3ED5-04FF-4035-BB96-9675E6622A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A6C87E-6F72-4C50-BB2E-0DBABDD439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E6EC4-9C4B-4EA0-BFCF-84CF3086F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E65-1FE3-4DA0-B810-8A77A04A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C47E-3D95-40C9-92FC-0CFD4F6B3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20AF-4695-4C23-871C-6EEE042AD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B571D-CCD0-4517-A1AC-2BBED7EB1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3BD2C-6B50-47FF-84E7-82BF0C964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2E0A9-75F5-470D-A6AB-4F1F89CD5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6AD7-05CC-47DE-8C60-75DA76720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F287A-4654-40EE-96F7-7B866AF41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7A787-D400-404B-93EC-28AA0AEB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DCFD-F602-47DA-B37C-F219AF96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B30E-C71A-4CFC-A47C-F873005A7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ACB24-C533-46DD-9AE2-5F635D10B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A6701-298F-4D38-8B62-67F06BF8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7807F-6F8A-4F36-8AFB-F52D9DD4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1BFB-DC63-49AA-81D5-EDD61A9191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5DB57-565B-4FC8-BE87-1CE81A1AE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5EE68-54D1-4D34-B365-9840B580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2702-80B3-46EC-942B-1B23F900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1DD4-81BF-4085-9CA8-960243933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83BB-1408-4042-8C91-1A6948C6B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1296-C846-4EDC-BE52-B819A005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C292-DD6D-444D-9243-D8CFB835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6C7F-664A-4CAC-9A5D-483FE030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AA8F1-47A6-4602-A5C6-1BB84ADD50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46C6-1494-4861-839B-F30F8D9F5B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Kootenay Boundary Leadership Development Program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luminate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6, 2010 (3:30 - 5:00 PS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:30 - 6:00 M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lans for next year..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r biggest questions regarding managing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hope to learn from the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post to the wiki by May 11,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rting Though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key responsibilities of school leaders is to create and sustain opportunities for adult learning that lead to improved learning for young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ser and H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arning Intentions for the Sess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view the Leadership Mindsets and context as a foundation for lead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participants with an opportunity to share actions taken since our last session around the Mind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the stage for nex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hape of the Sess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Setting - Key content of the year (Leadership Mindsets, Supervising for Learning,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 knowledge sharing and buil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Goal set around Supervising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One key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One comment re the degree to which you see evidence that your goal/action are making a difference, with an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2743200" y="1981080"/>
            <a:ext cx="3657600" cy="3505320"/>
          </a:xfrm>
          <a:prstGeom prst="ellipse">
            <a:avLst/>
          </a:prstGeom>
          <a:solidFill>
            <a:srgbClr val="b6f968"/>
          </a:solidFill>
          <a:ln w="93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76720" y="2362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aeec8"/>
                </a:solidFill>
                <a:latin typeface="Copperplate Gothic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84200" y="198360"/>
            <a:ext cx="83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eadership Mind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112536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ult Learn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995720" y="121428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idence See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3429000"/>
            <a:ext cx="199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ep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85800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059280" y="5661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943360" y="2698920"/>
            <a:ext cx="3152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In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M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324000" y="1628640"/>
            <a:ext cx="213336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380880" y="4800240"/>
            <a:ext cx="236232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 flipV="1">
            <a:off x="6588000" y="1484280"/>
            <a:ext cx="228600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4572000" y="11430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443640" y="4797360"/>
            <a:ext cx="2362320" cy="1219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687240" y="906480"/>
            <a:ext cx="7769520" cy="0"/>
          </a:xfrm>
          <a:prstGeom prst="line">
            <a:avLst/>
          </a:prstGeom>
          <a:ln w="127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3EAE58-9D44-46AB-A65B-15A32DBC16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BCELC-logo"/>
          <p:cNvPicPr/>
          <p:nvPr/>
        </p:nvPicPr>
        <p:blipFill>
          <a:blip r:embed="rId2"/>
          <a:stretch/>
        </p:blipFill>
        <p:spPr>
          <a:xfrm>
            <a:off x="6248520" y="6400800"/>
            <a:ext cx="2286000" cy="37476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8"/>
          <p:cNvGrpSpPr/>
          <p:nvPr/>
        </p:nvGrpSpPr>
        <p:grpSpPr>
          <a:xfrm>
            <a:off x="1208520" y="7200"/>
            <a:ext cx="7166880" cy="6374520"/>
            <a:chOff x="1208520" y="7200"/>
            <a:chExt cx="7166880" cy="6374520"/>
          </a:xfrm>
        </p:grpSpPr>
        <p:grpSp>
          <p:nvGrpSpPr>
            <p:cNvPr id="113" name="Group 9"/>
            <p:cNvGrpSpPr/>
            <p:nvPr/>
          </p:nvGrpSpPr>
          <p:grpSpPr>
            <a:xfrm>
              <a:off x="1208520" y="7200"/>
              <a:ext cx="7166880" cy="6145920"/>
              <a:chOff x="1208520" y="7200"/>
              <a:chExt cx="7166880" cy="6145920"/>
            </a:xfrm>
          </p:grpSpPr>
          <p:sp>
            <p:nvSpPr>
              <p:cNvPr id="114" name="AutoShape 10"/>
              <p:cNvSpPr/>
              <p:nvPr/>
            </p:nvSpPr>
            <p:spPr>
              <a:xfrm>
                <a:off x="1657080" y="302400"/>
                <a:ext cx="6298920" cy="5392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>
                      <a:alpha val="7607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54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1"/>
              <p:cNvSpPr/>
              <p:nvPr/>
            </p:nvSpPr>
            <p:spPr>
              <a:xfrm>
                <a:off x="3314880" y="2539440"/>
                <a:ext cx="2932200" cy="29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Meaningfu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an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reflective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dialogue around and about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student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learn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"/>
              <p:cNvSpPr/>
              <p:nvPr/>
            </p:nvSpPr>
            <p:spPr>
              <a:xfrm>
                <a:off x="1600200" y="5694480"/>
                <a:ext cx="64072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Culture of continuous learning and improvement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 rot="3580800">
                <a:off x="3474360" y="2592000"/>
                <a:ext cx="625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Knowledge of teaching and learning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 rot="18018600">
                <a:off x="-118080" y="2590200"/>
                <a:ext cx="621432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Positive professional relationship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1600200" y="5981760"/>
              <a:ext cx="64018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Calibri"/>
                </a:rPr>
                <a:t>A Culture of Inqui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BCELC-logo"/>
          <p:cNvPicPr/>
          <p:nvPr/>
        </p:nvPicPr>
        <p:blipFill>
          <a:blip r:embed="rId2"/>
          <a:stretch/>
        </p:blipFill>
        <p:spPr>
          <a:xfrm>
            <a:off x="6248520" y="6248520"/>
            <a:ext cx="2286000" cy="3744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8"/>
          <p:cNvGrpSpPr/>
          <p:nvPr/>
        </p:nvGrpSpPr>
        <p:grpSpPr>
          <a:xfrm>
            <a:off x="609480" y="387360"/>
            <a:ext cx="7925040" cy="6286320"/>
            <a:chOff x="609480" y="387360"/>
            <a:chExt cx="7925040" cy="6286320"/>
          </a:xfrm>
        </p:grpSpPr>
        <p:sp>
          <p:nvSpPr>
            <p:cNvPr id="122" name="Text Box 11"/>
            <p:cNvSpPr/>
            <p:nvPr/>
          </p:nvSpPr>
          <p:spPr>
            <a:xfrm>
              <a:off x="4000680" y="2444400"/>
              <a:ext cx="1485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5638680" y="5263920"/>
              <a:ext cx="171288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cus on 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17"/>
            <p:cNvGrpSpPr/>
            <p:nvPr/>
          </p:nvGrpSpPr>
          <p:grpSpPr>
            <a:xfrm>
              <a:off x="609480" y="387360"/>
              <a:ext cx="7925040" cy="6286320"/>
              <a:chOff x="609480" y="387360"/>
              <a:chExt cx="7925040" cy="6286320"/>
            </a:xfrm>
          </p:grpSpPr>
          <p:sp>
            <p:nvSpPr>
              <p:cNvPr id="125" name="Text Box 8"/>
              <p:cNvSpPr/>
              <p:nvPr/>
            </p:nvSpPr>
            <p:spPr>
              <a:xfrm>
                <a:off x="609480" y="387360"/>
                <a:ext cx="3467160" cy="62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Evaluation / Supervision Of Teach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Jud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Bottom Line / Final Wor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nvers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bservation / Respon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in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ole Specif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o Some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9"/>
              <p:cNvSpPr/>
              <p:nvPr/>
            </p:nvSpPr>
            <p:spPr>
              <a:xfrm>
                <a:off x="4876920" y="387360"/>
                <a:ext cx="3657600" cy="54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pervising For Lear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earn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Descriptive Feedba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flective Di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qui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yclic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ole Flexibil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ogeth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10"/>
              <p:cNvSpPr/>
              <p:nvPr/>
            </p:nvSpPr>
            <p:spPr>
              <a:xfrm>
                <a:off x="3886200" y="2215800"/>
                <a:ext cx="1714680" cy="914040"/>
              </a:xfrm>
              <a:prstGeom prst="ellipse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4"/>
              <p:cNvSpPr/>
              <p:nvPr/>
            </p:nvSpPr>
            <p:spPr>
              <a:xfrm>
                <a:off x="1981080" y="5263920"/>
                <a:ext cx="171468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Focus on Teach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6"/>
              <p:cNvSpPr/>
              <p:nvPr/>
            </p:nvSpPr>
            <p:spPr>
              <a:xfrm flipV="1">
                <a:off x="3352680" y="3196440"/>
                <a:ext cx="1028880" cy="19141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7"/>
              <p:cNvSpPr/>
              <p:nvPr/>
            </p:nvSpPr>
            <p:spPr>
              <a:xfrm flipH="1" flipV="1">
                <a:off x="5063760" y="3196440"/>
                <a:ext cx="956160" cy="19152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me Connec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ership mindsets are foundational to effective supervision fo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upervision involves a focus on the mindsets, including a commitme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oral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dul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inquirymind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rticipant Report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Goal set around Supervising f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One key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ne comment re the degree to which you see evidence that your goal/action are making a difference, with an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lans for Next Ye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n “Managing  Confli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uminate sess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up session with Judy and Linda: Minds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1:56:27Z</dcterms:created>
  <dc:creator>Pat Dooley</dc:creator>
  <dc:description/>
  <dc:language>en-US</dc:language>
  <cp:lastModifiedBy>Pat Dooley</cp:lastModifiedBy>
  <dcterms:modified xsi:type="dcterms:W3CDTF">2010-05-02T22:35:49Z</dcterms:modified>
  <cp:revision>15</cp:revision>
  <dc:subject/>
  <dc:title>Kootenay Boundary Leadership Development Program</dc:title>
</cp:coreProperties>
</file>