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EF05-0691-48CA-8C62-E287B570CF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1722AF-AC3A-423E-9267-D228807692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7037-630D-4907-AE74-76646B8C9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B851-B4F2-4993-B3B9-B177B4E4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4DE5A-26B9-43CB-9E7F-051E17BB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0923-635D-4C3C-AF81-5C926A8DA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6374-0E51-4508-A201-33DF44437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57E6-2C91-4562-9985-AF50B9B5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E1900-51BF-4937-829F-CD34757B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3F96C-4ECE-4E98-8F8A-1EAC0D6A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36832-4BDD-4C8A-A505-14D5174E2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8D97B-7E22-4A86-B32F-E30631D16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1BDF-2703-41C1-8B0E-12306B59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2AE8-603C-4AB7-AD27-A162567B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CBBCD-8B48-4E6A-ABDC-3789EE640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E862E-BCFC-416F-968A-34A0E9E88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61A2-504C-4122-8020-0819D3C18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CCD59-CC7A-4E65-91D5-4E2B56C15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864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15160" y="182844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6212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864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15160" y="4057200"/>
            <a:ext cx="245340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384FB-5768-4162-9C6C-1BC5B1472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F67C-7AEA-4B47-B96D-2C190BEF4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83C8-C8CA-4C40-B854-24A510B71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612A-DBE5-4C6E-9127-24412DED8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494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E115-7239-4012-AF5B-0ADE0C01E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A823-0291-4986-9354-FC36A6C44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05720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D1A8-4DCA-40CD-B3EC-14C5CD2A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1828440"/>
            <a:ext cx="371808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2120" y="4057200"/>
            <a:ext cx="761976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0028-B1DF-4372-9C07-A7D2B4492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7428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B2A9-2A56-4D75-9CC3-2B96B4B9F1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315D8-A7C4-4FB0-8E32-49C4F2DF3D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Kootenay Boundary Leadership Development Program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342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lluminate Sess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y 6, 2010 (3:30 - 5:00 PST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:30 - 6:00 MS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lans for next year..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your biggest questions regarding managing conflic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hope to learn from the sess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ease post to the wiki by May 11, 20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rting Thought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f the key responsibilities of school leaders is to create and sustain opportunities for adult learning that lead to improved learning for young peo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ser and Halb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Learning Intentions for the Ses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review the Leadership Mindsets and context as a foundation for leadershi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rovide participants with an opportunity to share actions taken since our last session around the Mind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et the stage for next ye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hape of the Session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xt Setting - Key content of the year (Leadership Mindsets, Supervising for Learning, Conne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icipant knowledge sharing and build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) Goal set around Supervising for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) One key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) One comment re the degree to which you see evidence that your goal/action are making a difference, with an exam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Oval 2"/>
          <p:cNvSpPr/>
          <p:nvPr/>
        </p:nvSpPr>
        <p:spPr>
          <a:xfrm>
            <a:off x="2743200" y="1981080"/>
            <a:ext cx="3657600" cy="3505320"/>
          </a:xfrm>
          <a:prstGeom prst="ellipse">
            <a:avLst/>
          </a:prstGeom>
          <a:solidFill>
            <a:srgbClr val="b6f968"/>
          </a:solidFill>
          <a:ln w="9360">
            <a:solidFill>
              <a:srgbClr val="727d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3276720" y="236232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aeec8"/>
                </a:solidFill>
                <a:latin typeface="Copperplate Gothic Bol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484200" y="198360"/>
            <a:ext cx="832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Calibri"/>
              </a:rPr>
              <a:t>Leadership Mindse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1042920" y="1125360"/>
            <a:ext cx="304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Adult Learning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4995720" y="1214280"/>
            <a:ext cx="2895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vidence See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50920" y="3429000"/>
            <a:ext cx="1996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Deep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6858000" y="35812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059280" y="566100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alibri"/>
              </a:rPr>
              <a:t>Tru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2943360" y="2698920"/>
            <a:ext cx="31525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Inten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Mo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 </a:t>
            </a:r>
            <a:r>
              <a:rPr b="1" lang="en-US" sz="3600" spc="-1" strike="noStrike">
                <a:solidFill>
                  <a:srgbClr val="0000ff"/>
                </a:solidFill>
                <a:latin typeface="Calibri"/>
                <a:ea typeface="Copperplate Gothic Bold"/>
              </a:rPr>
              <a:t>Purpo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2"/>
          <p:cNvSpPr/>
          <p:nvPr/>
        </p:nvSpPr>
        <p:spPr>
          <a:xfrm>
            <a:off x="324000" y="1628640"/>
            <a:ext cx="213336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3"/>
          <p:cNvSpPr/>
          <p:nvPr/>
        </p:nvSpPr>
        <p:spPr>
          <a:xfrm flipV="1">
            <a:off x="380880" y="4800240"/>
            <a:ext cx="2362320" cy="11430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"/>
          <p:cNvSpPr/>
          <p:nvPr/>
        </p:nvSpPr>
        <p:spPr>
          <a:xfrm flipV="1">
            <a:off x="6588000" y="1484280"/>
            <a:ext cx="2286000" cy="1371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5"/>
          <p:cNvSpPr/>
          <p:nvPr/>
        </p:nvSpPr>
        <p:spPr>
          <a:xfrm>
            <a:off x="4572000" y="1143000"/>
            <a:ext cx="0" cy="5335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6"/>
          <p:cNvSpPr/>
          <p:nvPr/>
        </p:nvSpPr>
        <p:spPr>
          <a:xfrm>
            <a:off x="6443640" y="4797360"/>
            <a:ext cx="2362320" cy="12193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687240" y="906480"/>
            <a:ext cx="7769520" cy="0"/>
          </a:xfrm>
          <a:prstGeom prst="line">
            <a:avLst/>
          </a:prstGeom>
          <a:ln w="127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147465-6DE7-4A61-84D5-B214FF0BE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5" descr="BCELC-logo"/>
          <p:cNvPicPr/>
          <p:nvPr/>
        </p:nvPicPr>
        <p:blipFill>
          <a:blip r:embed="rId2"/>
          <a:stretch/>
        </p:blipFill>
        <p:spPr>
          <a:xfrm>
            <a:off x="6248520" y="6400800"/>
            <a:ext cx="2286000" cy="374760"/>
          </a:xfrm>
          <a:prstGeom prst="rect">
            <a:avLst/>
          </a:prstGeom>
          <a:ln w="0">
            <a:noFill/>
          </a:ln>
        </p:spPr>
      </p:pic>
      <p:grpSp>
        <p:nvGrpSpPr>
          <p:cNvPr id="112" name="Group 8"/>
          <p:cNvGrpSpPr/>
          <p:nvPr/>
        </p:nvGrpSpPr>
        <p:grpSpPr>
          <a:xfrm>
            <a:off x="1208520" y="7200"/>
            <a:ext cx="7166880" cy="6374520"/>
            <a:chOff x="1208520" y="7200"/>
            <a:chExt cx="7166880" cy="6374520"/>
          </a:xfrm>
        </p:grpSpPr>
        <p:grpSp>
          <p:nvGrpSpPr>
            <p:cNvPr id="113" name="Group 9"/>
            <p:cNvGrpSpPr/>
            <p:nvPr/>
          </p:nvGrpSpPr>
          <p:grpSpPr>
            <a:xfrm>
              <a:off x="1208520" y="7200"/>
              <a:ext cx="7166880" cy="6145920"/>
              <a:chOff x="1208520" y="7200"/>
              <a:chExt cx="7166880" cy="6145920"/>
            </a:xfrm>
          </p:grpSpPr>
          <p:sp>
            <p:nvSpPr>
              <p:cNvPr id="114" name="AutoShape 10"/>
              <p:cNvSpPr/>
              <p:nvPr/>
            </p:nvSpPr>
            <p:spPr>
              <a:xfrm>
                <a:off x="1657080" y="302400"/>
                <a:ext cx="6298920" cy="5392080"/>
              </a:xfrm>
              <a:prstGeom prst="triangle">
                <a:avLst>
                  <a:gd name="adj" fmla="val 50000"/>
                </a:avLst>
              </a:prstGeom>
              <a:gradFill rotWithShape="0">
                <a:gsLst>
                  <a:gs pos="0">
                    <a:srgbClr val="ffcc00">
                      <a:alpha val="76078"/>
                    </a:srgbClr>
                  </a:gs>
                  <a:gs pos="100000">
                    <a:srgbClr val="ffffff">
                      <a:alpha val="0"/>
                    </a:srgbClr>
                  </a:gs>
                </a:gsLst>
                <a:lin ang="5400000"/>
              </a:gradFill>
              <a:ln w="5400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11"/>
              <p:cNvSpPr/>
              <p:nvPr/>
            </p:nvSpPr>
            <p:spPr>
              <a:xfrm>
                <a:off x="3314880" y="2539440"/>
                <a:ext cx="2932200" cy="29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Meaningful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and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reflective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dialogue around and about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student 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80"/>
                    </a:solidFill>
                    <a:latin typeface="Calibri"/>
                  </a:rPr>
                  <a:t>learning</a:t>
                </a:r>
                <a:endParaRPr b="0" lang="en-US" sz="2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Text Box 12"/>
              <p:cNvSpPr/>
              <p:nvPr/>
            </p:nvSpPr>
            <p:spPr>
              <a:xfrm>
                <a:off x="1600200" y="5694480"/>
                <a:ext cx="6407280" cy="45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Culture of continuous learning and improvement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Text Box 13"/>
              <p:cNvSpPr/>
              <p:nvPr/>
            </p:nvSpPr>
            <p:spPr>
              <a:xfrm rot="3580800">
                <a:off x="3474360" y="2592000"/>
                <a:ext cx="625104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Knowledge of teaching and learning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Text Box 14"/>
              <p:cNvSpPr/>
              <p:nvPr/>
            </p:nvSpPr>
            <p:spPr>
              <a:xfrm rot="18018600">
                <a:off x="-118080" y="2590200"/>
                <a:ext cx="6214320" cy="491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700" spc="-1" strike="noStrike">
                    <a:solidFill>
                      <a:srgbClr val="000080"/>
                    </a:solidFill>
                    <a:latin typeface="Calibri"/>
                  </a:rPr>
                  <a:t>Positive professional relationships</a:t>
                </a:r>
                <a:endParaRPr b="0" lang="en-US" sz="1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1600200" y="5981760"/>
              <a:ext cx="64018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720" rIns="36720" tIns="36720" bIns="367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000080"/>
                  </a:solidFill>
                  <a:latin typeface="Calibri"/>
                </a:rPr>
                <a:t>A Culture of Inquir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BCELC-logo"/>
          <p:cNvPicPr/>
          <p:nvPr/>
        </p:nvPicPr>
        <p:blipFill>
          <a:blip r:embed="rId2"/>
          <a:stretch/>
        </p:blipFill>
        <p:spPr>
          <a:xfrm>
            <a:off x="6248520" y="6248520"/>
            <a:ext cx="2286000" cy="37440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18"/>
          <p:cNvGrpSpPr/>
          <p:nvPr/>
        </p:nvGrpSpPr>
        <p:grpSpPr>
          <a:xfrm>
            <a:off x="609480" y="387360"/>
            <a:ext cx="7925040" cy="6286320"/>
            <a:chOff x="609480" y="387360"/>
            <a:chExt cx="7925040" cy="6286320"/>
          </a:xfrm>
        </p:grpSpPr>
        <p:sp>
          <p:nvSpPr>
            <p:cNvPr id="122" name="Text Box 11"/>
            <p:cNvSpPr/>
            <p:nvPr/>
          </p:nvSpPr>
          <p:spPr>
            <a:xfrm>
              <a:off x="4000680" y="2444400"/>
              <a:ext cx="148572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alibri"/>
                </a:rPr>
                <a:t>Data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5638680" y="5263920"/>
              <a:ext cx="1712880" cy="79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Focus on Lear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" name="Group 17"/>
            <p:cNvGrpSpPr/>
            <p:nvPr/>
          </p:nvGrpSpPr>
          <p:grpSpPr>
            <a:xfrm>
              <a:off x="609480" y="387360"/>
              <a:ext cx="7925040" cy="6286320"/>
              <a:chOff x="609480" y="387360"/>
              <a:chExt cx="7925040" cy="6286320"/>
            </a:xfrm>
          </p:grpSpPr>
          <p:sp>
            <p:nvSpPr>
              <p:cNvPr id="125" name="Text Box 8"/>
              <p:cNvSpPr/>
              <p:nvPr/>
            </p:nvSpPr>
            <p:spPr>
              <a:xfrm>
                <a:off x="609480" y="387360"/>
                <a:ext cx="3467160" cy="628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Evaluation / Supervision Of Teach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Jud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Bottom Line / Final Wor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onvers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Observation / Respon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Finit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ole Specifi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o Someo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Text Box 9"/>
              <p:cNvSpPr/>
              <p:nvPr/>
            </p:nvSpPr>
            <p:spPr>
              <a:xfrm>
                <a:off x="4876920" y="387360"/>
                <a:ext cx="3657600" cy="548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Calibri"/>
                  </a:rPr>
                  <a:t>Supervising For Learn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Learn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Descriptive Feedbac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eflective Dialogu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Inqui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Cyclica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Role Flexibili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Togeth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Oval 10"/>
              <p:cNvSpPr/>
              <p:nvPr/>
            </p:nvSpPr>
            <p:spPr>
              <a:xfrm>
                <a:off x="3886200" y="2215800"/>
                <a:ext cx="1714680" cy="914040"/>
              </a:xfrm>
              <a:prstGeom prst="ellipse">
                <a:avLst/>
              </a:prstGeom>
              <a:noFill/>
              <a:ln w="381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Text Box 14"/>
              <p:cNvSpPr/>
              <p:nvPr/>
            </p:nvSpPr>
            <p:spPr>
              <a:xfrm>
                <a:off x="1981080" y="5263920"/>
                <a:ext cx="1714680" cy="79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Focus on Teachin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6"/>
              <p:cNvSpPr/>
              <p:nvPr/>
            </p:nvSpPr>
            <p:spPr>
              <a:xfrm flipV="1">
                <a:off x="3352680" y="3196440"/>
                <a:ext cx="1028880" cy="191412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7"/>
              <p:cNvSpPr/>
              <p:nvPr/>
            </p:nvSpPr>
            <p:spPr>
              <a:xfrm flipH="1" flipV="1">
                <a:off x="5063760" y="3196440"/>
                <a:ext cx="956160" cy="1915200"/>
              </a:xfrm>
              <a:prstGeom prst="line">
                <a:avLst/>
              </a:prstGeom>
              <a:ln w="38160">
                <a:solidFill>
                  <a:srgbClr val="00008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Some Connection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eadership mindsets are foundational to effective supervision for learn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ive supervision involves a focus on the mindsets, including a commitment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moral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adult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inquiryminded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articipant Reports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) Goal set around Supervising for Lea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) One key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 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) One comment re the degree to which you see evidence that your goal/action are making a difference, with an examp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00"/>
                </a:solidFill>
                <a:latin typeface="Times New Roman"/>
              </a:rPr>
              <a:t>Plans for Next Year</a:t>
            </a:r>
            <a:endParaRPr b="1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762120" y="1828440"/>
            <a:ext cx="76197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ssion on “Managing  Conflic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luminate sessions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78695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up session with Judy and Linda: Mindse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2T21:56:27Z</dcterms:created>
  <dc:creator>Pat Dooley</dc:creator>
  <dc:description/>
  <dc:language>en-US</dc:language>
  <cp:lastModifiedBy>Pat Dooley</cp:lastModifiedBy>
  <dcterms:modified xsi:type="dcterms:W3CDTF">2010-05-02T22:35:49Z</dcterms:modified>
  <cp:revision>15</cp:revision>
  <dc:subject/>
  <dc:title>Kootenay Boundary Leadership Development Program</dc:title>
</cp:coreProperties>
</file>