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B16B-FBFA-47E0-9A73-5DBC606F9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8022E9-2020-4202-A8F4-82FA0DD16C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F9E7-53B2-4A3D-B36E-01CD365C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BF8D-5636-4266-BF3D-B3BFEEED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B54B-A1A1-47BC-A122-7FA5732DC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52FC-E1BB-4C25-A333-FB8A1F863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2053-83E9-4FFF-9FB4-46DAFA8F0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FAF6-D1B0-4172-927F-3AD8A03B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B43B-DA10-4A29-868D-901693D2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F294-F5F7-43BE-9F55-49CACB5D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BFB4-D641-48E9-996C-7E1D4344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992C-AE96-4AD5-9AD4-09F8A50F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A9DE-4B17-49E7-8872-3C8B45E6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C93D-966A-4B59-BDDF-1CC1BDE3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18D4-8ABD-425D-B263-3A5582E4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AB72-591A-433F-9959-36C12B89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FF03-7AF2-4BDD-9F13-7902B6BD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0D06-627A-4F0A-8BED-28E564CA8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625A-A08E-409D-95B0-5BC31FCCA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07CB-CCC8-4A96-9A8B-226D2D10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114A-B47E-419B-B58B-B3631AB7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1CD2-AF4B-437F-8571-006FB9AA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125D-A2A0-43A2-A0C1-3559D7DB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6A0B-5CA7-4B59-9737-5F302103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3551-E510-4FC2-BF7B-E3D6E146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6274-BE1E-40E9-BD23-D185AA9C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7CFF-DD1A-4D8B-B91E-6CCEB04E2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0A34-AE65-46B3-B4CA-C3E4BDE98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78695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Kootenay Boundary Leadership Development Program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luminate S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 6, 2010 (3:30 - 5:00 PS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:30 - 6:00 MS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Plans for next year..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your biggest questions regarding managing confli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hope to learn from the se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post to the wiki by May 11, 20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Parting Though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key responsibilities of school leaders is to create and sustain opportunities for adult learning that lead to improved learning for young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ser and Halb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earning Intentions for the Session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view the Leadership Mindsets and context as a foundation for leade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vide participants with an opportunity to share actions taken since our last session around the Mind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et the stage for next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Shape of the Session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xt Setting - Key content of the year (Leadership Mindsets, Supervising for Learning,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nt knowledge sharing and buil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Goal set around Supervising for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One key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One comment re the degree to which you see evidence that your goal/action are making a difference, with an exam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Oval 2"/>
          <p:cNvSpPr/>
          <p:nvPr/>
        </p:nvSpPr>
        <p:spPr>
          <a:xfrm>
            <a:off x="2743200" y="1981080"/>
            <a:ext cx="3657600" cy="3505320"/>
          </a:xfrm>
          <a:prstGeom prst="ellipse">
            <a:avLst/>
          </a:prstGeom>
          <a:solidFill>
            <a:srgbClr val="b6f968"/>
          </a:solidFill>
          <a:ln w="936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276720" y="2362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aeec8"/>
                </a:solidFill>
                <a:latin typeface="Copperplate Gothic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484200" y="198360"/>
            <a:ext cx="832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Leadership Minds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042920" y="112536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dult Learning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4995720" y="1214280"/>
            <a:ext cx="289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vidence See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50920" y="3429000"/>
            <a:ext cx="199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ep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6858000" y="3581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qui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059280" y="56610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2943360" y="2698920"/>
            <a:ext cx="31525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  <a:ea typeface="Copperplate Gothic Bold"/>
              </a:rPr>
              <a:t>Inte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  <a:ea typeface="Copperplate Gothic Bold"/>
              </a:rPr>
              <a:t>Mo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  <a:ea typeface="Copperplate Gothic Bold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  <a:ea typeface="Copperplate Gothic Bold"/>
              </a:rPr>
              <a:t>Purp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2"/>
          <p:cNvSpPr/>
          <p:nvPr/>
        </p:nvSpPr>
        <p:spPr>
          <a:xfrm>
            <a:off x="324000" y="1628640"/>
            <a:ext cx="2133360" cy="1371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3"/>
          <p:cNvSpPr/>
          <p:nvPr/>
        </p:nvSpPr>
        <p:spPr>
          <a:xfrm flipV="1">
            <a:off x="380880" y="4800240"/>
            <a:ext cx="236232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"/>
          <p:cNvSpPr/>
          <p:nvPr/>
        </p:nvSpPr>
        <p:spPr>
          <a:xfrm flipV="1">
            <a:off x="6588000" y="1484280"/>
            <a:ext cx="2286000" cy="1371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5"/>
          <p:cNvSpPr/>
          <p:nvPr/>
        </p:nvSpPr>
        <p:spPr>
          <a:xfrm>
            <a:off x="4572000" y="114300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6"/>
          <p:cNvSpPr/>
          <p:nvPr/>
        </p:nvSpPr>
        <p:spPr>
          <a:xfrm>
            <a:off x="6443640" y="4797360"/>
            <a:ext cx="2362320" cy="1219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8"/>
          <p:cNvSpPr/>
          <p:nvPr/>
        </p:nvSpPr>
        <p:spPr>
          <a:xfrm>
            <a:off x="687240" y="906480"/>
            <a:ext cx="7769520" cy="0"/>
          </a:xfrm>
          <a:prstGeom prst="line">
            <a:avLst/>
          </a:prstGeom>
          <a:ln w="127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1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74E142-30D7-4939-A05B-5E4E2943A7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BCELC-logo"/>
          <p:cNvPicPr/>
          <p:nvPr/>
        </p:nvPicPr>
        <p:blipFill>
          <a:blip r:embed="rId2"/>
          <a:stretch/>
        </p:blipFill>
        <p:spPr>
          <a:xfrm>
            <a:off x="6248520" y="6400800"/>
            <a:ext cx="2286000" cy="37476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8"/>
          <p:cNvGrpSpPr/>
          <p:nvPr/>
        </p:nvGrpSpPr>
        <p:grpSpPr>
          <a:xfrm>
            <a:off x="1208520" y="7200"/>
            <a:ext cx="7166880" cy="6374520"/>
            <a:chOff x="1208520" y="7200"/>
            <a:chExt cx="7166880" cy="6374520"/>
          </a:xfrm>
        </p:grpSpPr>
        <p:grpSp>
          <p:nvGrpSpPr>
            <p:cNvPr id="113" name="Group 9"/>
            <p:cNvGrpSpPr/>
            <p:nvPr/>
          </p:nvGrpSpPr>
          <p:grpSpPr>
            <a:xfrm>
              <a:off x="1208520" y="7200"/>
              <a:ext cx="7166880" cy="6145920"/>
              <a:chOff x="1208520" y="7200"/>
              <a:chExt cx="7166880" cy="6145920"/>
            </a:xfrm>
          </p:grpSpPr>
          <p:sp>
            <p:nvSpPr>
              <p:cNvPr id="114" name="AutoShape 10"/>
              <p:cNvSpPr/>
              <p:nvPr/>
            </p:nvSpPr>
            <p:spPr>
              <a:xfrm>
                <a:off x="1657080" y="302400"/>
                <a:ext cx="6298920" cy="5392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>
                      <a:alpha val="76078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540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1"/>
              <p:cNvSpPr/>
              <p:nvPr/>
            </p:nvSpPr>
            <p:spPr>
              <a:xfrm>
                <a:off x="3314880" y="2539440"/>
                <a:ext cx="2932200" cy="29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80"/>
                    </a:solidFill>
                    <a:latin typeface="Calibri"/>
                  </a:rPr>
                  <a:t>Meaningful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80"/>
                    </a:solidFill>
                    <a:latin typeface="Calibri"/>
                  </a:rPr>
                  <a:t>and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80"/>
                    </a:solidFill>
                    <a:latin typeface="Calibri"/>
                  </a:rPr>
                  <a:t>reflective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80"/>
                    </a:solidFill>
                    <a:latin typeface="Calibri"/>
                  </a:rPr>
                  <a:t>dialogue around and about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80"/>
                    </a:solidFill>
                    <a:latin typeface="Calibri"/>
                  </a:rPr>
                  <a:t>student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80"/>
                    </a:solidFill>
                    <a:latin typeface="Calibri"/>
                  </a:rPr>
                  <a:t>learning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2"/>
              <p:cNvSpPr/>
              <p:nvPr/>
            </p:nvSpPr>
            <p:spPr>
              <a:xfrm>
                <a:off x="1600200" y="5694480"/>
                <a:ext cx="640728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80"/>
                    </a:solidFill>
                    <a:latin typeface="Calibri"/>
                  </a:rPr>
                  <a:t>Culture of continuous learning and improvement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13"/>
              <p:cNvSpPr/>
              <p:nvPr/>
            </p:nvSpPr>
            <p:spPr>
              <a:xfrm rot="3580800">
                <a:off x="3474360" y="2592000"/>
                <a:ext cx="62510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80"/>
                    </a:solidFill>
                    <a:latin typeface="Calibri"/>
                  </a:rPr>
                  <a:t>Knowledge of teaching and learning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 Box 14"/>
              <p:cNvSpPr/>
              <p:nvPr/>
            </p:nvSpPr>
            <p:spPr>
              <a:xfrm rot="18018600">
                <a:off x="-118080" y="2590200"/>
                <a:ext cx="6214320" cy="49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80"/>
                    </a:solidFill>
                    <a:latin typeface="Calibri"/>
                  </a:rPr>
                  <a:t>Positive professional relationships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Text Box 15"/>
            <p:cNvSpPr/>
            <p:nvPr/>
          </p:nvSpPr>
          <p:spPr>
            <a:xfrm>
              <a:off x="1600200" y="5981760"/>
              <a:ext cx="640188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80"/>
                  </a:solidFill>
                  <a:latin typeface="Calibri"/>
                </a:rPr>
                <a:t>A Culture of Inquir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BCELC-logo"/>
          <p:cNvPicPr/>
          <p:nvPr/>
        </p:nvPicPr>
        <p:blipFill>
          <a:blip r:embed="rId2"/>
          <a:stretch/>
        </p:blipFill>
        <p:spPr>
          <a:xfrm>
            <a:off x="6248520" y="6248520"/>
            <a:ext cx="2286000" cy="3744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18"/>
          <p:cNvGrpSpPr/>
          <p:nvPr/>
        </p:nvGrpSpPr>
        <p:grpSpPr>
          <a:xfrm>
            <a:off x="609480" y="387360"/>
            <a:ext cx="7925040" cy="6286320"/>
            <a:chOff x="609480" y="387360"/>
            <a:chExt cx="7925040" cy="6286320"/>
          </a:xfrm>
        </p:grpSpPr>
        <p:sp>
          <p:nvSpPr>
            <p:cNvPr id="122" name="Text Box 11"/>
            <p:cNvSpPr/>
            <p:nvPr/>
          </p:nvSpPr>
          <p:spPr>
            <a:xfrm>
              <a:off x="4000680" y="2444400"/>
              <a:ext cx="1485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Dat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5638680" y="5263920"/>
              <a:ext cx="1712880" cy="79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Focus on Lear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17"/>
            <p:cNvGrpSpPr/>
            <p:nvPr/>
          </p:nvGrpSpPr>
          <p:grpSpPr>
            <a:xfrm>
              <a:off x="609480" y="387360"/>
              <a:ext cx="7925040" cy="6286320"/>
              <a:chOff x="609480" y="387360"/>
              <a:chExt cx="7925040" cy="6286320"/>
            </a:xfrm>
          </p:grpSpPr>
          <p:sp>
            <p:nvSpPr>
              <p:cNvPr id="125" name="Text Box 8"/>
              <p:cNvSpPr/>
              <p:nvPr/>
            </p:nvSpPr>
            <p:spPr>
              <a:xfrm>
                <a:off x="609480" y="387360"/>
                <a:ext cx="3467160" cy="628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Evaluation / Supervision Of Teach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Judg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Bottom Line / Final Wor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Convers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Observation / Respon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Fini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Role Specifi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To Someo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 Box 9"/>
              <p:cNvSpPr/>
              <p:nvPr/>
            </p:nvSpPr>
            <p:spPr>
              <a:xfrm>
                <a:off x="4876920" y="387360"/>
                <a:ext cx="3657600" cy="548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Supervising For Learn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Learn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Descriptive Feedbac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Reflective Dialog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Inqui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Cyclic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Role Flexibili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Togeth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10"/>
              <p:cNvSpPr/>
              <p:nvPr/>
            </p:nvSpPr>
            <p:spPr>
              <a:xfrm>
                <a:off x="3886200" y="2215800"/>
                <a:ext cx="1714680" cy="914040"/>
              </a:xfrm>
              <a:prstGeom prst="ellipse">
                <a:avLst/>
              </a:prstGeom>
              <a:noFill/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Text Box 14"/>
              <p:cNvSpPr/>
              <p:nvPr/>
            </p:nvSpPr>
            <p:spPr>
              <a:xfrm>
                <a:off x="1981080" y="5263920"/>
                <a:ext cx="1714680" cy="79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Focus on Teach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16"/>
              <p:cNvSpPr/>
              <p:nvPr/>
            </p:nvSpPr>
            <p:spPr>
              <a:xfrm flipV="1">
                <a:off x="3352680" y="3196440"/>
                <a:ext cx="1028880" cy="191412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17"/>
              <p:cNvSpPr/>
              <p:nvPr/>
            </p:nvSpPr>
            <p:spPr>
              <a:xfrm flipH="1" flipV="1">
                <a:off x="5063760" y="3196440"/>
                <a:ext cx="956160" cy="191520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Some Connection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adership mindsets are foundational to effective supervision for 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 supervision involves a focus on the mindsets, including a commitment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moral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adult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inquiryminde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Participant Report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Goal set around Supervising for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One key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One comment re the degree to which you see evidence that your goal/action are making a difference, with an exa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Plans for Next Ye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on “Managing  Conflic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uminate session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up session with Judy and Linda: Minds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21:56:27Z</dcterms:created>
  <dc:creator>Pat Dooley</dc:creator>
  <dc:description/>
  <dc:language>en-US</dc:language>
  <cp:lastModifiedBy>Pat Dooley</cp:lastModifiedBy>
  <dcterms:modified xsi:type="dcterms:W3CDTF">2010-05-02T22:35:49Z</dcterms:modified>
  <cp:revision>15</cp:revision>
  <dc:subject/>
  <dc:title>Kootenay Boundary Leadership Development Program</dc:title>
</cp:coreProperties>
</file>